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37C3-81BA-436E-AA58-C253CDD02F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276E-24E7-442C-B112-8C173C178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EA9D-5F2F-47CA-8AF3-6C94955F4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38F3-A458-477C-9ED2-71B985E1D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6F38-A297-490E-B530-FAFEBC671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AF6A-BC58-44B2-A493-6AD04E96D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92CD-ACB2-4430-A521-F3A21932D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17021-A49D-4B53-A1AD-C79D83451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A4C8-C4A0-4D3F-96B1-9CBE2235D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82BA-6310-4CF4-A5D1-605DDD0AE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2D3A-6CBB-47EE-A703-7658BF5EE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6FB8D-2408-43E4-B9BD-9FA6BFE28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83B1C85-442B-48B9-B5FA-8A2A2459E73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 – now: NEO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1-07T07:44:05Z</dcterms:modified>
  <cp:revision>87</cp:revision>
  <dc:subject/>
  <dc:title>No Slide Title</dc:title>
</cp:coreProperties>
</file>